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EF9-0BCE-4459-A7E6-C248D27B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65E-3BA1-46DF-954F-9404DD3B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F1A-8486-4C01-A7B6-AE0EF557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A3A-5982-4CD5-AAC9-C0AE9C6D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F95F-8B24-4D5D-B79E-3CECF4E1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7F3-BA5D-4008-9E81-70317757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779-32FE-4509-9612-E95E757D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920-1085-4EDA-A162-C8B5E43F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2975-EC65-45B0-A62C-C363BCFB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762-4483-4F64-9DD7-30217FBF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9CBA-BC2C-4248-A6E3-4B81B385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E860-1EE0-4F09-A42D-D771CCC3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B811-D07F-4CA8-B401-AC7D01F792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tchaikov.ru/images/pushkin1.jpg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" Target="slide19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19.xml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9.xml"/><Relationship Id="rId27" Type="http://schemas.openxmlformats.org/officeDocument/2006/relationships/slide" Target="slide19.xml"/><Relationship Id="rId28" Type="http://schemas.openxmlformats.org/officeDocument/2006/relationships/slide" Target="slide19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6.xml"/><Relationship Id="rId15" Type="http://schemas.openxmlformats.org/officeDocument/2006/relationships/slide" Target="slide6.xml"/><Relationship Id="rId16" Type="http://schemas.openxmlformats.org/officeDocument/2006/relationships/slide" Target="slide6.xml"/><Relationship Id="rId17" Type="http://schemas.openxmlformats.org/officeDocument/2006/relationships/slide" Target="slide8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" Target="slide9.xml"/><Relationship Id="rId21" Type="http://schemas.openxmlformats.org/officeDocument/2006/relationships/slide" Target="slide9.xml"/><Relationship Id="rId22" Type="http://schemas.openxmlformats.org/officeDocument/2006/relationships/slide" Target="slide9.xml"/><Relationship Id="rId23" Type="http://schemas.openxmlformats.org/officeDocument/2006/relationships/slide" Target="slide10.xml"/><Relationship Id="rId24" Type="http://schemas.openxmlformats.org/officeDocument/2006/relationships/slide" Target="slide11.xml"/><Relationship Id="rId25" Type="http://schemas.openxmlformats.org/officeDocument/2006/relationships/slide" Target="slide11.xml"/><Relationship Id="rId26" Type="http://schemas.openxmlformats.org/officeDocument/2006/relationships/slide" Target="slide11.xml"/><Relationship Id="rId27" Type="http://schemas.openxmlformats.org/officeDocument/2006/relationships/slide" Target="slide12.xml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1125360"/>
            <a:ext cx="7124760" cy="252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Особенности развития русской портретной живопи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4149360"/>
            <a:ext cx="6400800" cy="213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парсуны до  портр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оветский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0960" y="1769760"/>
            <a:ext cx="8204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В советский период реалистический портрет-тип получил дальнейшее развитие в творчестве таких художников, как Г.Г. Ряжский (“Председательница”, 1928), М.В. Нестеров (“Портрет академика И.П. Павлова”, 1935). Типические особенности народного характера отразились в многочисленных образах крестьян, созданных художником А.А. Пласт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1"/>
          <p:cNvSpPr/>
          <p:nvPr/>
        </p:nvSpPr>
        <p:spPr>
          <a:xfrm>
            <a:off x="468360" y="765000"/>
            <a:ext cx="4608360" cy="547236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540640" cy="1125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ередина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8000" y="907920"/>
            <a:ext cx="36939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сов. время реалистические начала творчества Н. получили качественно новое развитие. Он работал главным образом как портретист, создав замечательные образы деятелей науки и искусства. Эти портреты, в основном 1930-х гг. (П. Д. и А. Д. Кориных, 1930, А. Н. Северцова, 1934, И. Д. Шадра, 1934, С. С. Юдина, 1935, И. П. Павлова, 1935, Государственная премия СССР, 1941; К. Г. Держинской, 1937, Е. С. Кругликозой, 1938, В. И. Мухиной, 1940, — все в Третьяковской галерее), выдвинули художника в ряд ведущих мастеров живописи социалистического реализма. Их объединяют ощущение богатства духовной жизни, творческого горения, разнообразие остро выявленных характеров и гибкость в выборе средств, наиболее рельефно выражающих психологических склад и настроение человека. Портретам свойственны совершенство картинной формы, гармоничное, чёткое построение композиции, точность живописной характеристики объёма и пространства</a:t>
            </a:r>
            <a:r>
              <a:rPr b="0" lang="ru-RU" sz="14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nb_pinacoteca_nesterov_portrait_of_count_leo_tolstoy"/>
          <p:cNvPicPr/>
          <p:nvPr/>
        </p:nvPicPr>
        <p:blipFill>
          <a:blip r:embed="rId2"/>
          <a:stretch/>
        </p:blipFill>
        <p:spPr>
          <a:xfrm>
            <a:off x="539640" y="836640"/>
            <a:ext cx="4413240" cy="532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"/>
          <p:cNvSpPr/>
          <p:nvPr/>
        </p:nvSpPr>
        <p:spPr>
          <a:xfrm>
            <a:off x="2916360" y="765000"/>
            <a:ext cx="2735280" cy="345600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7819" dir="2700000" blurRad="0" rotWithShape="0">
              <a:srgbClr val="9192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торая полови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24000" y="836280"/>
            <a:ext cx="282420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трую психологическую характеристику своих моделей дают такие известные портретисты, как П.Д. Корин (“Портрет скульптора С.Т. Коненкова”, 1947), Т.Т. Салахов (“Композитор Кара Караев, 1960), Д.И. Жилинский (“Портрет скульптора И.С. Ефимова”, 1954) и многие друг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 в портретном жанре успешно работают такие художники, как Н. Сафронов, исполнивший множество живописных образов знаменитых политиков, актеров и музыкантов, И.С. Глазунов, создавший целую галерею портретов известных деятелей науки и культуры. Огромный вклад в развитие русской портретной живописи внес А.М. Шилов (“Портрет академика И.Л. Кнунянца”, 1974; “Портрет Оли”, 1974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XGetDBPicServlet?xpub_id=4802&amp;img_id=2"/>
          <p:cNvPicPr/>
          <p:nvPr/>
        </p:nvPicPr>
        <p:blipFill>
          <a:blip r:embed="rId2"/>
          <a:stretch/>
        </p:blipFill>
        <p:spPr>
          <a:xfrm>
            <a:off x="2987640" y="836640"/>
            <a:ext cx="2583000" cy="3311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9" name="Rectangle 13"/>
          <p:cNvSpPr/>
          <p:nvPr/>
        </p:nvSpPr>
        <p:spPr>
          <a:xfrm>
            <a:off x="395280" y="2781360"/>
            <a:ext cx="3024360" cy="367200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7819" dir="2700000" blurRad="0" rotWithShape="0">
              <a:srgbClr val="9192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glazunov-4"/>
          <p:cNvPicPr/>
          <p:nvPr/>
        </p:nvPicPr>
        <p:blipFill>
          <a:blip r:embed="rId3"/>
          <a:stretch/>
        </p:blipFill>
        <p:spPr>
          <a:xfrm>
            <a:off x="468360" y="2852640"/>
            <a:ext cx="2859120" cy="352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1374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1.   Расскажите, чем парсуна отличается от иконы и портр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2.  Что повлияло на возникновение портретного жанра в русском искус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3.  Назовите первых русских портретистов (начало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VIII 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века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4.  Что нового привнес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 век в русскую портретную живопи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5.  Назовите великих мастеров портрета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6.  Новые влияния в живописи начала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X 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5"/>
          <p:cNvSpPr/>
          <p:nvPr/>
        </p:nvSpPr>
        <p:spPr>
          <a:xfrm>
            <a:off x="5940360" y="1341360"/>
            <a:ext cx="237672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3276720" y="1341360"/>
            <a:ext cx="244764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2"/>
          <p:cNvSpPr/>
          <p:nvPr/>
        </p:nvSpPr>
        <p:spPr>
          <a:xfrm>
            <a:off x="684360" y="1341360"/>
            <a:ext cx="237492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072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Times New Roman"/>
              </a:rPr>
              <a:t>Определите к какому времени принадлежат портр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Портрет А. С. Пушкина работы О. А. Кипренского. 1827. ГТГ - кликните по картинке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484280"/>
            <a:ext cx="21402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9" name="Picture 5" descr="13081249_Portret_A"/>
          <p:cNvPicPr/>
          <p:nvPr/>
        </p:nvPicPr>
        <p:blipFill>
          <a:blip r:embed="rId4">
            <a:lum contrast="-18000"/>
          </a:blip>
          <a:stretch/>
        </p:blipFill>
        <p:spPr>
          <a:xfrm>
            <a:off x="6156360" y="1484280"/>
            <a:ext cx="19638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0" name="Picture 6" descr="ioann_vasilyevich_groznyi"/>
          <p:cNvPicPr/>
          <p:nvPr/>
        </p:nvPicPr>
        <p:blipFill>
          <a:blip r:embed="rId5"/>
          <a:stretch/>
        </p:blipFill>
        <p:spPr>
          <a:xfrm>
            <a:off x="3419640" y="1484280"/>
            <a:ext cx="20952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1" name="Text Box 7"/>
          <p:cNvSpPr/>
          <p:nvPr/>
        </p:nvSpPr>
        <p:spPr>
          <a:xfrm>
            <a:off x="971640" y="4365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971640" y="5013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Живопись 1830 – 185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971640" y="422100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Вторая полови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XX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971640" y="566100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Конец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XI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3473640" y="5032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3564000" y="4365720"/>
            <a:ext cx="20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Парсу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XV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3564000" y="5013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Середи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3564000" y="566100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XVI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6227640" y="4941720"/>
            <a:ext cx="17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XVI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6351480" y="5537160"/>
            <a:ext cx="16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6227640" y="544500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Живопись 1830 – 185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6156360" y="4292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Конец XVIII 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XI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619280" y="1341360"/>
            <a:ext cx="5905440" cy="44640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" action="ppaction://hlinksldjump"/>
              </a:rPr>
              <a:t>Парсу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3" action="ppaction://hlinksldjump"/>
              </a:rPr>
              <a:t>XV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4" action="ppaction://hlinksldjump"/>
              </a:rPr>
              <a:t>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5" action="ppaction://hlinksldjump"/>
              </a:rPr>
              <a:t>Конец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6" action="ppaction://hlinksldjump"/>
              </a:rPr>
              <a:t>XV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7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8" action="ppaction://hlinksldjump"/>
              </a:rPr>
              <a:t>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9" action="ppaction://hlinksldjump"/>
              </a:rPr>
              <a:t>XVI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0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1" action="ppaction://hlinksldjump"/>
              </a:rPr>
              <a:t>Середи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2" action="ppaction://hlinksldjump"/>
              </a:rPr>
              <a:t>XVI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3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4" action="ppaction://hlinksldjump"/>
              </a:rPr>
              <a:t>Конец XVIII века – 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5" action="ppaction://hlinksldjump"/>
              </a:rPr>
              <a:t>XI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6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7" action="ppaction://hlinksldjump"/>
              </a:rPr>
              <a:t>Живопись 1830 – 1850-х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8" action="ppaction://hlinksldjump"/>
              </a:rPr>
              <a:t>Конец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9" action="ppaction://hlinksldjump"/>
              </a:rPr>
              <a:t>XI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0" action="ppaction://hlinksldjump"/>
              </a:rPr>
              <a:t>века – 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1" action="ppaction://hlinksldjump"/>
              </a:rPr>
              <a:t>X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2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3" action="ppaction://hlinksldjump"/>
              </a:rPr>
              <a:t>Советски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4" action="ppaction://hlinksldjump"/>
              </a:rPr>
              <a:t>Середи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5" action="ppaction://hlinksldjump"/>
              </a:rPr>
              <a:t>X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6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7" action="ppaction://hlinksldjump"/>
              </a:rPr>
              <a:t>Вторая половина </a:t>
            </a:r>
            <a:r>
              <a:rPr b="0" lang="en-US" sz="18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1800" spc="-1" strike="noStrike">
                <a:solidFill>
                  <a:srgbClr val="221700"/>
                </a:solidFill>
                <a:latin typeface="Lucida Sans Unicode"/>
              </a:rPr>
              <a:t>XXI </a:t>
            </a: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700"/>
                </a:solidFill>
                <a:latin typeface="Times New Roman"/>
              </a:rPr>
              <a:t>Сопроводительный 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6481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Тема: Особенности развития русской портретной живописи. От парсуны до портр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Автор: Африна Н. Ю., студентка ХГФ МПГУ 304 группы, </a:t>
            </a:r>
            <a:r>
              <a:rPr b="0" lang="en-US" sz="1800" spc="-1" strike="noStrike">
                <a:solidFill>
                  <a:srgbClr val="221700"/>
                </a:solidFill>
                <a:latin typeface="Times New Roman"/>
              </a:rPr>
              <a:t>nadia0509@mail.ru</a:t>
            </a: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Научный руководитель: кандидат педагогических наук, доцент Гудилина С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Для кого: 9 -11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Цели: Ознакомление с историей и развитием русской портретной живописи,                  эстетическое воспитание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39640" y="4653000"/>
            <a:ext cx="80647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Анно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Презентация содержит информацию о развитии русского портрета начиная от парсуны </a:t>
            </a:r>
            <a:r>
              <a:rPr b="0" lang="en-US" sz="2000" spc="-1" strike="noStrike">
                <a:solidFill>
                  <a:srgbClr val="221700"/>
                </a:solidFill>
                <a:latin typeface="Times New Roman"/>
              </a:rPr>
              <a:t>XVII </a:t>
            </a: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века. В презентации указаны основные этапы становления русской портретной живописи. Также включает в себя вопросы и задание для самопроверки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Untitled-2"/>
          <p:cNvPicPr/>
          <p:nvPr/>
        </p:nvPicPr>
        <p:blipFill>
          <a:blip r:embed="rId2"/>
          <a:stretch/>
        </p:blipFill>
        <p:spPr>
          <a:xfrm>
            <a:off x="7308720" y="620640"/>
            <a:ext cx="1177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360" y="981000"/>
            <a:ext cx="5759280" cy="1209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700"/>
                </a:solidFill>
                <a:latin typeface="Lucida Sans Unicode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В Сарабьянов, история русского и советского искусства, издательство «высшая школа» М.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rimart.ru/istoria/ist_port/ist_00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2268360" y="2421000"/>
            <a:ext cx="4751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е 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2700360" y="299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рнуться к зад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484360" y="2421000"/>
            <a:ext cx="432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771640" y="30686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рнуться к зад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250920" y="981000"/>
            <a:ext cx="4249800" cy="48960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79000" cy="90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Парсу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248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арсуна появляется в переходный период русской истории, во время преобразования средневекового мировоззрения и складывания новых художественных идеалов. Первые русские парсуны создаются, скорее всего, мастерами Оружейной палаты Московского Кремля в XVII в. Наиболее известным автором парсун считается Симон Ушаков. По стилю, приемам и материалам живописи парсуны первоначально ничем не отличаются от икон, выполняются на иконных досках с ковчегом. Иногда пишется такой составляющий элемент иконы, как нимб вокруг головы персонажа. Во второй половине XVII в. парсуна часто пишется на холсте в технике масляной живописи, хотя манера исполнения продолжает содержать иконописные традиции. Временем окончательного превращения парсунной живописи в западноевропейский живописный портрет считаются 1760-е гг., однако, в провинции техника парсуны существовала и в более поздний пери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арсуне портретное сходство передается весьма условно, часто используются атрибуты и подпись, позволяющие идентифицировать изображенного. Персонажами являются, прежде всего, цари, князья, военачальники, церковные иерархи.</a:t>
            </a:r>
            <a:r>
              <a:rPr b="0" lang="ru-RU" sz="14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5272"/>
          <p:cNvPicPr/>
          <p:nvPr/>
        </p:nvPicPr>
        <p:blipFill>
          <a:blip r:embed="rId2"/>
          <a:stretch/>
        </p:blipFill>
        <p:spPr>
          <a:xfrm>
            <a:off x="324000" y="1052640"/>
            <a:ext cx="410508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brandenburg_concerto_n3_bwv_1048_-_1_allegro.mp3" descr=""/>
          <p:cNvPicPr/>
          <p:nvPr/>
        </p:nvPicPr>
        <p:blipFill>
          <a:blip r:embed="rId3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"/>
          <p:cNvSpPr/>
          <p:nvPr/>
        </p:nvSpPr>
        <p:spPr>
          <a:xfrm>
            <a:off x="539640" y="765000"/>
            <a:ext cx="4392720" cy="5616720"/>
          </a:xfrm>
          <a:prstGeom prst="rect">
            <a:avLst/>
          </a:prstGeom>
          <a:solidFill>
            <a:srgbClr val="ebf1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онец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3640" y="907560"/>
            <a:ext cx="3672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еизвестный художник конца 17 век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ортрет Якова Федоровича Турген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е позднее 16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лоскостность изображения, локальность цвета, резкие контуры говорят о традициях, связывающих его с приемами древнерусской живописи. Однако в основе художественного видения мастера уже преобладают натурные наблюдения. Они сказываются в искусной передаче материала и деталей одежды, но более всего — в экспрессии лица и позы портретируем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Портрет Якова Тургенева"/>
          <p:cNvPicPr/>
          <p:nvPr/>
        </p:nvPicPr>
        <p:blipFill>
          <a:blip r:embed="rId2"/>
          <a:stretch/>
        </p:blipFill>
        <p:spPr>
          <a:xfrm>
            <a:off x="611280" y="836640"/>
            <a:ext cx="4216320" cy="5472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8"/>
          <p:cNvSpPr/>
          <p:nvPr/>
        </p:nvSpPr>
        <p:spPr>
          <a:xfrm>
            <a:off x="539640" y="981000"/>
            <a:ext cx="4319640" cy="540072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86560" cy="911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92360" y="1196640"/>
            <a:ext cx="332100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ервые десятилетия после основания Петербурга в нем выдвинулась группа молодых художников, порвавших с застывшими каноническими формами древнерусского искусства, обратившихся к изображению реального мира, к передаче психологического облика человека.  Первые русские портретисты Иван Никитин и Андрей Матвеев были посланы Петром I за границу совершенствовать свое живописное мастерство</a:t>
            </a:r>
            <a:r>
              <a:rPr b="1" lang="ru-RU" sz="1400" spc="-1" strike="noStrike">
                <a:solidFill>
                  <a:srgbClr val="2217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999783894"/>
          <p:cNvPicPr/>
          <p:nvPr/>
        </p:nvPicPr>
        <p:blipFill>
          <a:blip r:embed="rId2"/>
          <a:stretch/>
        </p:blipFill>
        <p:spPr>
          <a:xfrm>
            <a:off x="611280" y="1052640"/>
            <a:ext cx="4163760" cy="5256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0"/>
          <p:cNvSpPr/>
          <p:nvPr/>
        </p:nvSpPr>
        <p:spPr>
          <a:xfrm>
            <a:off x="468360" y="836640"/>
            <a:ext cx="4390920" cy="540072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-1004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ереди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8000" y="907920"/>
            <a:ext cx="33447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Это сочетание объемно написанной головы и несколько более плоскостно и декоративно трактованной фигуры в изукрашенном наряде, выступающей чаще всего из темного фона, придает портретам Вишнякова особую прелесть. Он относится к числу тех редких, рождающихся обычно в переходные эпохи, художников, в искусстве которых утонченное мастерство соединяется с наивностью, а изысканность - с непосредственностью восприятия. Поэтому созданный им образ Сарры Фермор - одетой во "взрослое" платье очаровательной девочки с непомерно длинными руками - стал своеобразным символом всего русского искусства середины XVIII столетия.</a:t>
            </a:r>
            <a:r>
              <a:rPr b="1" lang="ru-RU" sz="1400" spc="-1" strike="noStrike">
                <a:solidFill>
                  <a:srgbClr val="2217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9" descr="5448"/>
          <p:cNvPicPr/>
          <p:nvPr/>
        </p:nvPicPr>
        <p:blipFill>
          <a:blip r:embed="rId2"/>
          <a:stretch/>
        </p:blipFill>
        <p:spPr>
          <a:xfrm>
            <a:off x="539640" y="907920"/>
            <a:ext cx="4221360" cy="525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611280" y="836640"/>
            <a:ext cx="4176720" cy="5329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Конец XVIII 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I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8920" y="764640"/>
            <a:ext cx="38149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XVIII век вошел в историю русского живописного искусства как «век портрета», одним из лучших его портретистов является Владимир Лукич Боровиковский. Портрет М. И. Лопухиной — одно из поэтичнейших произведений  Боровиковского, в которых отразилось влияние стиля сентиментализма.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релестная молодая женщина показана в уединенном уголке парка, в изображение которого художник условно привносит мотивы русской сельской природы. 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С ленивой и томной грацией Лопухина облокотилась на садовый парапет. Пейзажный фон, подчеркивая близость к природе, соответствует мечтательной настроенности молодой женщины. В портрете поражает удивительная гармоничность образа и средств выражения. Грустно задумчивому взгляду, нежной улыбке, свободной, чуть усталой позе Лопухиной отвечают плавный ритм линий, мягкая округлость форм, нежные тона белого платья, голубого пояса, сиреневых шарфа и розы, пепельные волосы, неяркая зелень древесной листвы. Мягкая воздушная дымка заполняет пространство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1lopuhina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611280" y="907920"/>
            <a:ext cx="4032000" cy="518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7777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Жанр портрета становится необыкновенно популярным в русском искусстве конца XVIII века. Это подтверждает и широкое распространение провинциального портрета. Как правило, их заказчиками были представители небогатого дворянства и купечества, а иногда и знатные вельможи. Зачастую провинциальные художники копировали существующие образцы, повторяли приемы, разработанные столичной школой. Таков представленный на выставке овальный портрет императрицы Екатерины II, который, скорее всего, выполнен на основе гравюрного оригинала.</a:t>
            </a:r>
            <a:r>
              <a:rPr b="1" lang="ru-RU" sz="2400" spc="-1" strike="noStrike">
                <a:solidFill>
                  <a:srgbClr val="2217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3"/>
          <p:cNvSpPr/>
          <p:nvPr/>
        </p:nvSpPr>
        <p:spPr>
          <a:xfrm>
            <a:off x="250920" y="692280"/>
            <a:ext cx="2736720" cy="3313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-1004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Живопись 1830 – 1850-х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03640" y="836280"/>
            <a:ext cx="3888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Творчество Брюллова внесло в живопись русского классицизма струю романтизма, жизненности. Произведения Брюллова отмечены утверждением чувственно-пластической красоты человека, драматической напряженностью образов, реалистическими тенденциями, тонким психологизмом. Блестящий мастер парадного портрета.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роизведениях В.А. Тропинина, С.К. Зарянко, П.А. Федотова мы имеем дело с теми же свойственными времени тенденциями максимального приближения к натуре, к интимной, частной жизни человека. В поздних работах П.А. Федотова (Вдовушка; Анкор, еще анкор, ГТГ) уже видна попытка передать тягостную атмосферу, окружающую бедных людей, настроение безотрадной тоски, наполнить картину социальным смыслом. Однако все эти задачи было трудно решить в рамках стиля бидермайер. Новые требования к жизни вызывали в искусстве появление новых средств выражения. На смену идиллического изображения селян и натюрмортов пришли остросоциальные проблемы и новый стиль - критический реализм, который стал ведущим в русском искусстве второй половины XIX ве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natali"/>
          <p:cNvPicPr/>
          <p:nvPr/>
        </p:nvPicPr>
        <p:blipFill>
          <a:blip r:embed="rId2"/>
          <a:stretch/>
        </p:blipFill>
        <p:spPr>
          <a:xfrm>
            <a:off x="324000" y="765000"/>
            <a:ext cx="257940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1" name="Rectangle 14"/>
          <p:cNvSpPr/>
          <p:nvPr/>
        </p:nvSpPr>
        <p:spPr>
          <a:xfrm>
            <a:off x="2411280" y="2924280"/>
            <a:ext cx="2808360" cy="345744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fedotov07"/>
          <p:cNvPicPr/>
          <p:nvPr/>
        </p:nvPicPr>
        <p:blipFill>
          <a:blip r:embed="rId3"/>
          <a:stretch/>
        </p:blipFill>
        <p:spPr>
          <a:xfrm>
            <a:off x="2484360" y="2997360"/>
            <a:ext cx="2627280" cy="3313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7"/>
          <p:cNvSpPr/>
          <p:nvPr/>
        </p:nvSpPr>
        <p:spPr>
          <a:xfrm>
            <a:off x="324000" y="907920"/>
            <a:ext cx="2808000" cy="30258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Конец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I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80000" y="1052640"/>
            <a:ext cx="316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Живописное мастерство, совершенство рисунка Серова необыкновенно высоки. Полнота эмоционального воздействия произведений художника объясняется умением найти точные изобразительные средства и в совершенной форме воплотить многогранную картину жизни. Портрет работы В. А. Серова- "Портрет Портретыч", как шутя называл этот жанр художник, - не просто талантливое воссоздание черт индивидуального лица, но -и мир, в котором живет изображаемый человек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а рубеже 19 и20 вв. искусство ряда передвижников стало утрачивать глубину отражения жизни, обличительный пафос. ТПХВ теряло былое общественное влияние, но основное ядро передвижников до конца сохранило верность реализму и демократическим идеал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serov_dev"/>
          <p:cNvPicPr/>
          <p:nvPr/>
        </p:nvPicPr>
        <p:blipFill>
          <a:blip r:embed="rId2"/>
          <a:stretch/>
        </p:blipFill>
        <p:spPr>
          <a:xfrm>
            <a:off x="395280" y="981000"/>
            <a:ext cx="2616120" cy="288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7" name="Rectangle 15"/>
          <p:cNvSpPr/>
          <p:nvPr/>
        </p:nvSpPr>
        <p:spPr>
          <a:xfrm>
            <a:off x="2627280" y="2852640"/>
            <a:ext cx="2592360" cy="3313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repin2"/>
          <p:cNvPicPr/>
          <p:nvPr/>
        </p:nvPicPr>
        <p:blipFill>
          <a:blip r:embed="rId3"/>
          <a:stretch/>
        </p:blipFill>
        <p:spPr>
          <a:xfrm>
            <a:off x="2700360" y="2924280"/>
            <a:ext cx="244332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15:30Z</dcterms:created>
  <dc:creator>МЫ ВМЕСТЕ!!!</dc:creator>
  <dc:description/>
  <dc:language>en-US</dc:language>
  <cp:lastModifiedBy>Owner</cp:lastModifiedBy>
  <dcterms:modified xsi:type="dcterms:W3CDTF">2011-07-11T09:40:56Z</dcterms:modified>
  <cp:revision>32</cp:revision>
  <dc:subject/>
  <dc:title>Особенности развития русской портретной живописи</dc:title>
</cp:coreProperties>
</file>